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013F-932D-4396-9CAB-73322C161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8D53-0286-43B3-A788-2BDDA3AE4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314B-9ED4-4F95-8CF6-973E9C33E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7965-0095-49F6-854F-19D1DE6B3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4BEE4-9F8A-40A7-A37D-35BF41424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3CA4D-8F21-47AD-8A70-EF0E1F273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F03C9-ACE8-42AF-81E0-AFF92E3CA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54CBB-9453-446F-9008-43F60712F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D50D3-DABA-4638-A3C9-EB00DC540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4CD31-357F-4D57-BBD3-2F9AA47CC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8D809-750B-4CA6-8BA4-707901B1D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174B-40A1-47A2-9037-E5A037726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EC534-989D-4111-9B1B-27DBBB4DD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62B74-53C0-4C76-A569-EA77755DD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CF524-68F0-407C-BF59-6D4B2FD86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F4273-394A-42B2-913A-1E095C368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35A73-A4B6-4013-97B0-2B9CA4CAC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4549-6680-40FA-9EA5-3775D6BEB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B324-B7BA-4E3F-A495-14708731A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A1E5-1855-418F-8CA5-B26049B24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9894-B232-4416-AB02-CD1D0E94F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6062-FC64-44BF-B8AE-6E60A8C75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16E4-7D20-4709-82FD-CA4E50DCD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2895-C008-4987-AE65-C1ED6AA04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6DB21-C897-4D88-B64B-57B8F196C83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19252-11B2-4ADD-AAD8-1E9108194DBF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755640" y="2349360"/>
            <a:ext cx="763128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sk-SK" sz="2800" spc="-1" strike="noStrike">
                <a:solidFill>
                  <a:srgbClr val="ff3300"/>
                </a:solidFill>
                <a:latin typeface="Arial"/>
              </a:rPr>
              <a:t>Informácia o predložení veľkého projektu Európskej komisii</a:t>
            </a:r>
            <a:r>
              <a:rPr b="1" lang="sk-SK" sz="2400" spc="-1" strike="noStrike">
                <a:solidFill>
                  <a:srgbClr val="006600"/>
                </a:solidFill>
                <a:latin typeface="Tahoma"/>
              </a:rPr>
              <a:t> 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79480" cy="11286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258920" y="1268280"/>
            <a:ext cx="64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sterstvo životného prostredia 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950240" y="0"/>
            <a:ext cx="1193760" cy="8031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3708360" y="5445000"/>
            <a:ext cx="1944720" cy="5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SKK Ružomberok a ČOV Liptovská Teplá, Liptovské Sliač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755280" y="2492280"/>
            <a:ext cx="838836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6600"/>
                </a:solidFill>
                <a:latin typeface="Arial"/>
              </a:rPr>
              <a:t>Cieľom projektu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je zabezpečenie odvádzania a čistenia komunálnych odpadových vôd v regióne Dolného Liptova a dosiahnutie min. 85% napojenosti obyvateľstva na verejnú kanalizáciu </a:t>
            </a:r>
            <a:r>
              <a:rPr b="1" lang="sk-SK" sz="1600" spc="-1" strike="noStrike">
                <a:solidFill>
                  <a:srgbClr val="0033cc"/>
                </a:solidFill>
                <a:latin typeface="Arial"/>
              </a:rPr>
              <a:t>v aglomeráciách Ružomberok, Sliače a Lúčky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a zabezpečenie čistenia odpadových vôd v súlade s požiadavkami smernice Rady č.91/271/EHS a s Nariadením vlády SR č.296/2005 Z. z.  ktorým sa ustanovujú požiadavky na kvalitu a kvantitatívne ciele povrchových vôd a limitné hodnoty znečistenia odpadových vôd a osobitných vô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6600"/>
                </a:solidFill>
                <a:latin typeface="Arial"/>
              </a:rPr>
              <a:t>Merateľné ukazovatele projekt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33cc"/>
                </a:solidFill>
                <a:latin typeface="Arial"/>
              </a:rPr>
              <a:t>Dĺžka novovybudovaných kanalizačných sietí                  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36 402 + 3 714 =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600" spc="-1" strike="noStrike">
                <a:solidFill>
                  <a:srgbClr val="0033cc"/>
                </a:solidFill>
                <a:latin typeface="Arial"/>
              </a:rPr>
              <a:t>40 116 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33cc"/>
                </a:solidFill>
                <a:latin typeface="Arial"/>
              </a:rPr>
              <a:t>Počet zrekonštruovaných ČOV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</a:t>
            </a:r>
            <a:r>
              <a:rPr b="1" lang="sk-SK" sz="1600" spc="-1" strike="noStrike">
                <a:solidFill>
                  <a:srgbClr val="0033cc"/>
                </a:solidFill>
                <a:latin typeface="Arial"/>
              </a:rPr>
              <a:t>1 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33cc"/>
                </a:solidFill>
                <a:latin typeface="Arial"/>
              </a:rPr>
              <a:t>Počet EO napojených na novovybudovanú kanalizačnú sieť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 5 195 + 535 = </a:t>
            </a:r>
            <a:r>
              <a:rPr b="1" lang="sk-SK" sz="1600" spc="-1" strike="noStrike">
                <a:solidFill>
                  <a:srgbClr val="0033cc"/>
                </a:solidFill>
                <a:latin typeface="Arial"/>
              </a:rPr>
              <a:t>5 730 E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33cc"/>
                </a:solidFill>
                <a:latin typeface="Arial"/>
              </a:rPr>
              <a:t>Počet EO napojených na zrekonštruovanú ČOV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                   4 609 + 2 598 = </a:t>
            </a:r>
            <a:r>
              <a:rPr b="1" lang="sk-SK" sz="1600" spc="-1" strike="noStrike">
                <a:solidFill>
                  <a:srgbClr val="0033cc"/>
                </a:solidFill>
                <a:latin typeface="Arial"/>
              </a:rPr>
              <a:t>7 207 E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SKK Ružomberok a ČOV Liptovská Teplá, Liptovské Sliač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755640" y="2276640"/>
            <a:ext cx="8137440" cy="50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Financovanie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lkové výdavky projektu s DPH                            26 761 430,76 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lkové výdavky projektu bez DPH                        22 488 597,28 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rávnené náklady pre určenie výšky grantu       20 432 443,12 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ýška medzery vo financovaní                                              88,50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nzita pomoci                                                                      84,05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Požadovaný grant z Kohézneho fondu (71,44%)   14 597 402,13 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Národné spolufinancovanie (ŠR) (12,61%)               2 576 012,14 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árodné spolufinancovanie (žiadateľ) (15,95%)       3 259 028,85 €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SKK Ružomberok a ČOV Liptovská Teplá, Liptovské Sliač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26920" y="2349000"/>
            <a:ext cx="828216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Realizácia projektu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9/2010 – 03/20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Trvalá prevádzk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1.4.20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Prehľad schvaľovania dokument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Projektový zám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16.12.2008 – 18.3.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Štúdia uskutočniteľnost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30.6.2009 – 7.9.2009 (2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Žiadosť o potvrdenie pomoc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7.12.2009 – 22.3.2010 (2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Žiadosť o NF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7.4.2010 – 30.4.2010 (O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Zaslanie EK                                4.5.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01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JASP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8:56:38Z</dcterms:created>
  <dc:creator>maximova</dc:creator>
  <dc:description/>
  <dc:language>en-US</dc:language>
  <cp:lastModifiedBy>aa</cp:lastModifiedBy>
  <dcterms:modified xsi:type="dcterms:W3CDTF">2010-05-26T09:18:12Z</dcterms:modified>
  <cp:revision>93</cp:revision>
  <dc:subject/>
  <dc:title>MONITOROVACÍ VÝBOR 7.5.2008</dc:title>
</cp:coreProperties>
</file>